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270-F697-439A-9E02-15D10FF3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14C-7E6E-45DF-AF8A-A0C17B77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981-B3BA-4796-B99F-94B7F62C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CC8-EB35-4EF8-9D64-3BEE6E4B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FD73-F284-4B3C-AD75-F03CB276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2668-D0E8-4F64-814F-C76CC730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FCB6-B394-4E6E-B469-A15E4C7D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660E-B1E1-418C-B38E-A6E30FC2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1F41-1D58-458F-B821-6ED7BB87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F1F7-94B1-48C3-B763-8E8A4815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8BCA-61C3-4B8A-971E-56FB816F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3BD9-C13B-41E6-8D86-A9D11351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D1C2-5DD9-4CD0-8877-71CECFC6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AB9F-9013-4CF0-B07B-14FC8BF7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B044-AB28-4D5D-AC78-28F2AC67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2FB9-3D82-4422-87F5-49F226F5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0079-1877-47D2-897F-C351AD6E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4B6-7D78-4197-BE27-93621B57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628D-BBFA-4825-BE1E-A3C065EB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2E1-6592-4247-B75C-8A599089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EA3-1E9D-42DA-969D-30803808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D7D1-6495-4992-ACD2-A66844D3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C94-B9AA-4004-8EE9-39AA5E02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5DFD-31BB-4680-A7D3-8B47F67A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F60B-E0A2-4154-9C4D-4319F4D66E0F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F7F6-9C79-47D3-B039-CB08AAC12BB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2"/>
          <p:cNvSpPr/>
          <p:nvPr/>
        </p:nvSpPr>
        <p:spPr>
          <a:xfrm>
            <a:off x="1262160" y="476280"/>
            <a:ext cx="719748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02000"/>
                </a:solidFill>
                <a:latin typeface="Times New Roman"/>
              </a:rPr>
              <a:t>«Расскажи мне, и я забуду,</a:t>
            </a:r>
            <a:r>
              <a:rPr b="0" lang="ru-RU" sz="5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br>
              <a:rPr sz="5400"/>
            </a:br>
            <a:r>
              <a:rPr b="0" lang="ru-RU" sz="5400" spc="-1" strike="noStrike">
                <a:solidFill>
                  <a:srgbClr val="402000"/>
                </a:solidFill>
                <a:latin typeface="Times New Roman"/>
              </a:rPr>
              <a:t>покажи мне, и я запомню, </a:t>
            </a:r>
            <a:br>
              <a:rPr sz="5400"/>
            </a:br>
            <a:r>
              <a:rPr b="0" lang="ru-RU" sz="5400" spc="-1" strike="noStrike">
                <a:solidFill>
                  <a:srgbClr val="402000"/>
                </a:solidFill>
                <a:latin typeface="Times New Roman"/>
              </a:rPr>
              <a:t>вовлеки меня, и я научусь».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Китайская мудрость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1386000" y="31104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Найдите квадрат выражения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619280" y="981000"/>
            <a:ext cx="228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3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5y</a:t>
            </a:r>
            <a:r>
              <a:rPr b="0" lang="en-US" sz="48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0,9a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Объект 5"/>
              <p:cNvSpPr txBox="1"/>
              <p:nvPr/>
            </p:nvSpPr>
            <p:spPr>
              <a:xfrm>
                <a:off x="7020000" y="3678120"/>
                <a:ext cx="8287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Объект 5"/>
              <p:cNvSpPr txBox="1"/>
              <p:nvPr/>
            </p:nvSpPr>
            <p:spPr>
              <a:xfrm>
                <a:off x="7020000" y="2316240"/>
                <a:ext cx="792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Объект 5"/>
              <p:cNvSpPr txBox="1"/>
              <p:nvPr/>
            </p:nvSpPr>
            <p:spPr>
              <a:xfrm>
                <a:off x="7020000" y="990720"/>
                <a:ext cx="5763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Box 4"/>
          <p:cNvSpPr/>
          <p:nvPr/>
        </p:nvSpPr>
        <p:spPr>
          <a:xfrm>
            <a:off x="3882960" y="981000"/>
            <a:ext cx="2289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40a</a:t>
            </a:r>
            <a:r>
              <a:rPr b="0" lang="en-US" sz="4800" spc="-1" strike="noStrike" baseline="30000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2xy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4800" spc="-1" strike="noStrike" baseline="30000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z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4"/>
          <p:cNvSpPr/>
          <p:nvPr/>
        </p:nvSpPr>
        <p:spPr>
          <a:xfrm>
            <a:off x="1414440" y="83340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едставьте в виде квадрата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1076400" y="1609560"/>
            <a:ext cx="68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2000"/>
                </a:solidFill>
                <a:latin typeface="Times New Roman"/>
              </a:rPr>
              <a:t>16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25a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x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 1,44a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10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 49x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6      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81a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Объект 7"/>
              <p:cNvSpPr txBox="1"/>
              <p:nvPr/>
            </p:nvSpPr>
            <p:spPr>
              <a:xfrm>
                <a:off x="2124000" y="2637000"/>
                <a:ext cx="67788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414440" y="83340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очитайте выражения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908000" y="1700280"/>
            <a:ext cx="25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2000"/>
                </a:solidFill>
                <a:latin typeface="Times New Roman"/>
              </a:rPr>
              <a:t>(9 –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x + 4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5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– b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7 + 3c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– (2a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3a – b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572000" y="1679400"/>
            <a:ext cx="273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1-18a+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+8x+16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?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9+42c +9c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9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–6ab+ b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1212840" y="1554120"/>
            <a:ext cx="7345440" cy="327996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2" descr=""/>
          <p:cNvPicPr/>
          <p:nvPr/>
        </p:nvPicPr>
        <p:blipFill>
          <a:blip r:embed="rId2"/>
          <a:stretch/>
        </p:blipFill>
        <p:spPr>
          <a:xfrm>
            <a:off x="2292480" y="4419720"/>
            <a:ext cx="45720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166760" y="907920"/>
            <a:ext cx="7345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Прочитать п.17, стр.67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Записать формулу разности квадратов и ее словесную формулировку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Разобрать примеры 2 и 3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Приступить к самостоятельной работе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2" descr=""/>
          <p:cNvPicPr/>
          <p:nvPr/>
        </p:nvPicPr>
        <p:blipFill>
          <a:blip r:embed="rId1"/>
          <a:stretch/>
        </p:blipFill>
        <p:spPr>
          <a:xfrm>
            <a:off x="2305080" y="622440"/>
            <a:ext cx="4986360" cy="182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912960" y="2349360"/>
          <a:ext cx="7772400" cy="2886120"/>
        </p:xfrm>
        <a:graphic>
          <a:graphicData uri="http://schemas.openxmlformats.org/drawingml/2006/table">
            <a:tbl>
              <a:tblPr/>
              <a:tblGrid>
                <a:gridCol w="1930320"/>
                <a:gridCol w="547560"/>
                <a:gridCol w="549360"/>
                <a:gridCol w="547560"/>
                <a:gridCol w="547920"/>
                <a:gridCol w="722160"/>
                <a:gridCol w="722160"/>
                <a:gridCol w="722520"/>
                <a:gridCol w="642960"/>
                <a:gridCol w="839880"/>
              </a:tblGrid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72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87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87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72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87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gridSpan="4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ценка «3»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ценка «4»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ценка «5»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4T21:01:16Z</dcterms:created>
  <dc:creator>Чернов Алексей</dc:creator>
  <dc:description/>
  <dc:language>en-US</dc:language>
  <cp:lastModifiedBy>Костя</cp:lastModifiedBy>
  <dcterms:modified xsi:type="dcterms:W3CDTF">2012-12-25T13:31:51Z</dcterms:modified>
  <cp:revision>32</cp:revision>
  <dc:subject/>
  <dc:title>Что такое деятельность ?</dc:title>
</cp:coreProperties>
</file>